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4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F1F7-F677-4FDF-B075-96AC4EB8E9F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Rounded MT Bold"/>
              </a:rPr>
              <a:t>Químicamente la oxidación se define como la pérdida de electrones y la reducción como la ganancia de el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Rounded MT Bold"/>
              </a:rPr>
              <a:t>En consecuencia la oxidación está siempre acompañada por la reducción de un aceptor de electr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Rounded MT Bold"/>
              </a:rPr>
              <a:t>Este principio de OXIDO- REDUCCIÓN se aplica a los sistemas bioquímicos y es un concepto importante para la comprensión de la naturaleza de las oxidaciones biológi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Rounded MT Bold"/>
              </a:rPr>
              <a:t>La vida de los animales superiores depende en forma absoluta del suministro de oxígen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2B9-852D-476B-A792-39F009DE7FE6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142-DB7D-4CE7-B80F-CD6D8750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143-98D5-40F2-BDBE-932A329C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3EB-882D-4DBD-9CD5-4B802221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1CE-B9B1-445F-8D63-B7FC48D7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1BA-99D4-40B6-A756-72E407F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EDE-EF5E-4111-9575-14AD42DD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71C-4E39-404A-A889-680432F5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B30-5B60-419B-88E4-2C3F0824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39E-3720-4ED5-8820-71F3913A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CB8-DE5D-4046-85E7-218E13B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5F7-919E-4F14-B85F-27E1BE13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780-7ED3-40A3-8F98-F488564C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ECD2-48DF-48EC-8B4F-284D3DEF266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Rectángulo"/>
          <p:cNvSpPr/>
          <p:nvPr/>
        </p:nvSpPr>
        <p:spPr>
          <a:xfrm>
            <a:off x="684360" y="692280"/>
            <a:ext cx="777528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LA OXIDACIÓN EN LOS SISTEMAS BIOLÓGIC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CADENA RESPIRATO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Rounded MT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TRANSPORTE ELECTRO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Rounded MT Bold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FOSFORILACION OXIDA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942920" cy="7351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2484360" y="271440"/>
            <a:ext cx="6191280" cy="632628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Rectángulo"/>
          <p:cNvSpPr/>
          <p:nvPr/>
        </p:nvSpPr>
        <p:spPr>
          <a:xfrm>
            <a:off x="2765160" y="549360"/>
            <a:ext cx="3451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LA MITOCOND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2 Rectángulo"/>
          <p:cNvSpPr/>
          <p:nvPr/>
        </p:nvSpPr>
        <p:spPr>
          <a:xfrm>
            <a:off x="826920" y="1557360"/>
            <a:ext cx="763272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FÁBRICA DE ENERGÍA CELULAR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S EL SITIO DONDE TIENEN LUG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L TRANSPORTE ELECTRÓNICO Y 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LA FOSFORILACIÓN OXIDATIVA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Flecha abajo"/>
          <p:cNvSpPr/>
          <p:nvPr/>
        </p:nvSpPr>
        <p:spPr>
          <a:xfrm>
            <a:off x="4491000" y="4005360"/>
            <a:ext cx="484200" cy="7920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n 2" descr="C:\Users\Fanny\Documents\concurso titular 2009\Imagen 3.jpg"/>
          <p:cNvPicPr/>
          <p:nvPr/>
        </p:nvPicPr>
        <p:blipFill>
          <a:blip r:embed="rId1"/>
          <a:stretch/>
        </p:blipFill>
        <p:spPr>
          <a:xfrm>
            <a:off x="320760" y="549360"/>
            <a:ext cx="86104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72b3dc34a9dfilenameFA230typeimagejpeg"/>
          <p:cNvPicPr/>
          <p:nvPr/>
        </p:nvPicPr>
        <p:blipFill>
          <a:blip r:embed="rId1"/>
          <a:stretch/>
        </p:blipFill>
        <p:spPr>
          <a:xfrm>
            <a:off x="4413240" y="2625840"/>
            <a:ext cx="4730760" cy="321768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pic>
        <p:nvPicPr>
          <p:cNvPr id="87" name="Picture 4" descr="67f3dc349f1filenameD240typeimagegif"/>
          <p:cNvPicPr/>
          <p:nvPr/>
        </p:nvPicPr>
        <p:blipFill>
          <a:blip r:embed="rId2"/>
          <a:stretch/>
        </p:blipFill>
        <p:spPr>
          <a:xfrm>
            <a:off x="31680" y="476280"/>
            <a:ext cx="4324320" cy="550224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16000" y="1052280"/>
            <a:ext cx="352764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Calibri"/>
              </a:rPr>
              <a:t>Localiz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6 Grupo"/>
          <p:cNvGrpSpPr/>
          <p:nvPr/>
        </p:nvGrpSpPr>
        <p:grpSpPr>
          <a:xfrm>
            <a:off x="3143160" y="4929120"/>
            <a:ext cx="1143000" cy="928800"/>
            <a:chOff x="3143160" y="4929120"/>
            <a:chExt cx="1143000" cy="928800"/>
          </a:xfrm>
        </p:grpSpPr>
        <p:sp>
          <p:nvSpPr>
            <p:cNvPr id="90" name="4 Elipse"/>
            <p:cNvSpPr/>
            <p:nvPr/>
          </p:nvSpPr>
          <p:spPr>
            <a:xfrm>
              <a:off x="3143160" y="4929120"/>
              <a:ext cx="785880" cy="35712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Calibri"/>
                </a:rPr>
                <a:t>30AT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5 Elipse"/>
            <p:cNvSpPr/>
            <p:nvPr/>
          </p:nvSpPr>
          <p:spPr>
            <a:xfrm>
              <a:off x="3500280" y="5500800"/>
              <a:ext cx="785880" cy="35712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Calibri"/>
                </a:rPr>
                <a:t>32AT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476280"/>
            <a:ext cx="9036000" cy="1143000"/>
          </a:xfrm>
          <a:prstGeom prst="rect">
            <a:avLst/>
          </a:prstGeom>
          <a:solidFill>
            <a:srgbClr val="7030a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La cadena transportadora de electr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133720"/>
            <a:ext cx="8229600" cy="42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NADH+H y el FADH2, obtenidos en el ciclo de Krebs, van a entrar en una cadena transportadora de electrones o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adena respiratori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, donde pasan los electrones, de una molécula reducida a otra oxidada, hasta el aceptor final que será el oxígeno molecular, que al reducirse formará agua.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CuadroTexto"/>
          <p:cNvSpPr/>
          <p:nvPr/>
        </p:nvSpPr>
        <p:spPr>
          <a:xfrm>
            <a:off x="1060560" y="189000"/>
            <a:ext cx="7200720" cy="654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DENA DE TRANSPORTE ELECTRO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os componentes de la cadena se encuentran en la membrana mitocondrial inter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ciben equivalentes de reducción de NADH Y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producidos en la matr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os componentes actúan secuencialmente en orden creciente según sus potenciales de redu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energía que se libera durante la transferencia electrónica está acoplada a varios procesos endergónicos entre los que se destaca la síntesis de AT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500040"/>
            <a:ext cx="86788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Rectángulo"/>
          <p:cNvSpPr/>
          <p:nvPr/>
        </p:nvSpPr>
        <p:spPr>
          <a:xfrm>
            <a:off x="368280" y="620640"/>
            <a:ext cx="838044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Reacciones de la cadena de transporte de electrones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Con excepción de la coenzima Q, todos los miembros de esta cadena son proteínas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Pueden funcionar como enzimas como en el caso de varias deshidrogenasas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Pueden contener hierro como parte de su centro hierro-azufre 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Los citocromos a y a3 contienen cob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324000" y="461880"/>
            <a:ext cx="8424720" cy="63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ponentes de la cadena respira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Transportadores de electr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</a:t>
            </a: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enzimas hidrosolubles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NAD+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enzimas de las deshidrogen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MN               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unen covalentemente a flavoproteína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D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(grupo prostético), transportan 2 e- y 2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Quinonas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Coenzima Q – Ubiquinona, transportadores en medio no acuoso (membrana), transporta 1 e- y libera 2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a la matri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itocromos b, c, c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</a:t>
            </a: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a y a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3</a:t>
            </a: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proteínas con grupo prostético hemo, transportan 1 e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roteínas ferro-sulfuradas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proteínas con Fe asociado a átomos de S, transfieren 1 e- por oxidación o reducción del 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2 Cerrar llave"/>
          <p:cNvSpPr/>
          <p:nvPr/>
        </p:nvSpPr>
        <p:spPr>
          <a:xfrm>
            <a:off x="1562040" y="2087640"/>
            <a:ext cx="289080" cy="72072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16200" y="10800"/>
                  <a:pt x="21600" y="10800"/>
                </a:cubicBezTo>
                <a:cubicBezTo>
                  <a:pt x="162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4 Cerrar llave"/>
          <p:cNvSpPr/>
          <p:nvPr/>
        </p:nvSpPr>
        <p:spPr>
          <a:xfrm>
            <a:off x="1562040" y="2997360"/>
            <a:ext cx="289080" cy="71892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718920"/>
              <a:gd name="textAreaBottom" fmla="*/ 71172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2"/>
                  <a:pt x="10800" y="723"/>
                </a:cubicBezTo>
                <a:lnTo>
                  <a:pt x="10800" y="10077"/>
                </a:lnTo>
                <a:cubicBezTo>
                  <a:pt x="10800" y="10439"/>
                  <a:pt x="16200" y="10800"/>
                  <a:pt x="21600" y="10800"/>
                </a:cubicBezTo>
                <a:cubicBezTo>
                  <a:pt x="16200" y="10800"/>
                  <a:pt x="10800" y="11162"/>
                  <a:pt x="10800" y="11523"/>
                </a:cubicBezTo>
                <a:lnTo>
                  <a:pt x="10800" y="20877"/>
                </a:lnTo>
                <a:cubicBezTo>
                  <a:pt x="10800" y="212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Reacciones que proveen de NAD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a la cadena respira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ángulo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al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cetoglutar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upo 13"/>
          <p:cNvGrpSpPr/>
          <p:nvPr/>
        </p:nvGrpSpPr>
        <p:grpSpPr>
          <a:xfrm>
            <a:off x="5300640" y="2851200"/>
            <a:ext cx="3386160" cy="1799640"/>
            <a:chOff x="5300640" y="2851200"/>
            <a:chExt cx="3386160" cy="1799640"/>
          </a:xfrm>
        </p:grpSpPr>
        <p:sp>
          <p:nvSpPr>
            <p:cNvPr id="103" name="Elipse 9"/>
            <p:cNvSpPr/>
            <p:nvPr/>
          </p:nvSpPr>
          <p:spPr>
            <a:xfrm>
              <a:off x="6094440" y="2851200"/>
              <a:ext cx="2592360" cy="1655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Calibri"/>
                </a:rPr>
                <a:t>CICLO DE KREB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ínea 10"/>
            <p:cNvSpPr/>
            <p:nvPr/>
          </p:nvSpPr>
          <p:spPr>
            <a:xfrm>
              <a:off x="5300640" y="3068640"/>
              <a:ext cx="720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ínea 11"/>
            <p:cNvSpPr/>
            <p:nvPr/>
          </p:nvSpPr>
          <p:spPr>
            <a:xfrm>
              <a:off x="5518080" y="3932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ínea 12"/>
            <p:cNvSpPr/>
            <p:nvPr/>
          </p:nvSpPr>
          <p:spPr>
            <a:xfrm flipV="1">
              <a:off x="5445000" y="4507920"/>
              <a:ext cx="792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Cuadro de texto 4"/>
          <p:cNvSpPr/>
          <p:nvPr/>
        </p:nvSpPr>
        <p:spPr>
          <a:xfrm>
            <a:off x="539640" y="5373720"/>
            <a:ext cx="691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Sustrato  +  NAD</a:t>
            </a:r>
            <a:r>
              <a:rPr b="1" lang="es-E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Producto  +  NADH +  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ínea 5"/>
          <p:cNvSpPr/>
          <p:nvPr/>
        </p:nvSpPr>
        <p:spPr>
          <a:xfrm>
            <a:off x="3276720" y="5661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ángulo 6"/>
          <p:cNvSpPr/>
          <p:nvPr/>
        </p:nvSpPr>
        <p:spPr>
          <a:xfrm>
            <a:off x="5651640" y="5229360"/>
            <a:ext cx="2089080" cy="792000"/>
          </a:xfrm>
          <a:prstGeom prst="rect">
            <a:avLst/>
          </a:prstGeom>
          <a:solidFill>
            <a:srgbClr val="ffff00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uadro de texto 8"/>
          <p:cNvSpPr/>
          <p:nvPr/>
        </p:nvSpPr>
        <p:spPr>
          <a:xfrm>
            <a:off x="8101080" y="5300640"/>
            <a:ext cx="647640" cy="36828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ínea 7"/>
          <p:cNvSpPr/>
          <p:nvPr/>
        </p:nvSpPr>
        <p:spPr>
          <a:xfrm>
            <a:off x="774072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79280" y="333360"/>
            <a:ext cx="849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Rounded MT Bold"/>
              </a:rPr>
              <a:t>Desde el punto de vista quí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 Rectángulo"/>
          <p:cNvSpPr/>
          <p:nvPr/>
        </p:nvSpPr>
        <p:spPr>
          <a:xfrm>
            <a:off x="271440" y="1071720"/>
            <a:ext cx="36003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OXID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Ganancia de oxíge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érdida de electr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érdida de hidróge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3 Rectángulo"/>
          <p:cNvSpPr/>
          <p:nvPr/>
        </p:nvSpPr>
        <p:spPr>
          <a:xfrm>
            <a:off x="5018040" y="1071720"/>
            <a:ext cx="3672000" cy="250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RE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érdida de oxíge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Ganancia de electr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Ganancia de hidrógeno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(en compuestos orgán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6 Rectángulo"/>
          <p:cNvSpPr/>
          <p:nvPr/>
        </p:nvSpPr>
        <p:spPr>
          <a:xfrm>
            <a:off x="28440" y="5157720"/>
            <a:ext cx="9126720" cy="13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l uso principal del OXÍGENO es en la RESPI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Y ESTE ES EL PROCESO POR EL CUAL LAS CÉLULAS OBTIENEN ENERGÍA EN FORMA DE AT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7 Rectángulo"/>
          <p:cNvSpPr/>
          <p:nvPr/>
        </p:nvSpPr>
        <p:spPr>
          <a:xfrm>
            <a:off x="271440" y="3933720"/>
            <a:ext cx="8640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ste principio de OXIDO- REDUCCIÓN se aplica a los sistemas bioquímicos y es un concepto importante para la comprensión de la naturaleza de las oxidaciones biológ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 Rectángulo"/>
          <p:cNvSpPr/>
          <p:nvPr/>
        </p:nvSpPr>
        <p:spPr>
          <a:xfrm>
            <a:off x="31680" y="522360"/>
            <a:ext cx="9137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Componentes de la Cadena de transporte electró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uadro de texto 7"/>
          <p:cNvSpPr/>
          <p:nvPr/>
        </p:nvSpPr>
        <p:spPr>
          <a:xfrm>
            <a:off x="590400" y="1916280"/>
            <a:ext cx="7969320" cy="4526280"/>
          </a:xfrm>
          <a:prstGeom prst="rect">
            <a:avLst/>
          </a:prstGeom>
          <a:solidFill>
            <a:srgbClr val="fdfee2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lejo enzimát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pos  prostét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I (NADH deshidrogenasa)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      FMN, F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II ( succinato deshidrogenasa)   FAD, F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III (citocromo bc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)                        Hemo, F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itocromo c                                                   He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IV (citocromo oxidasa)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Hemo, 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V (ATP sinta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Rectángulo"/>
          <p:cNvSpPr/>
          <p:nvPr/>
        </p:nvSpPr>
        <p:spPr>
          <a:xfrm>
            <a:off x="611280" y="549360"/>
            <a:ext cx="813744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La Cadena de Transporte de Electrones comprende dos proces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1.- Los electrones son transportados a lo largo de la membrana, de un complejo de proteínas transportadoras a ot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2. Los protones son translocados a través de la membrana, desde el interior o matriz hacia el espacio intermembrana de la mitocond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sto constituye un gradiente de proto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l oxígeno es el aceptor terminal del electrón, combinándose con electrones e iones H</a:t>
            </a:r>
            <a:r>
              <a:rPr b="1" lang="es-AR" sz="2400" spc="-1" strike="noStrike" baseline="30000">
                <a:solidFill>
                  <a:srgbClr val="000000"/>
                </a:solidFill>
                <a:latin typeface="Arial Rounded MT Bold"/>
              </a:rPr>
              <a:t>+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 para producir agu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n 2" descr=""/>
          <p:cNvPicPr/>
          <p:nvPr/>
        </p:nvPicPr>
        <p:blipFill>
          <a:blip r:embed="rId1"/>
          <a:stretch/>
        </p:blipFill>
        <p:spPr>
          <a:xfrm>
            <a:off x="965160" y="620640"/>
            <a:ext cx="7494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CuadroTexto"/>
          <p:cNvSpPr/>
          <p:nvPr/>
        </p:nvSpPr>
        <p:spPr>
          <a:xfrm>
            <a:off x="420840" y="692280"/>
            <a:ext cx="8281800" cy="56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a transferencia de electrones desde el NADH a través de la cadena respiratoria hasta el O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s un proceso altamente exergón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a mayor parte de esa energía se emplea para bombear protones fuera de la matr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or cada par de electrones transferidos al O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los complejos I y III bombean 4 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y 2 el complejo I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l complejo II no transfiere 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ya que no atraviesa la membrana interna como los demá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sí esta energía electroquímica generada por el gradiente protónico impulsa la síntesis de AT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2" descr="C:\Users\Fanny\Documents\concurso titular 2009\Imagen 2.jpg"/>
          <p:cNvPicPr/>
          <p:nvPr/>
        </p:nvPicPr>
        <p:blipFill>
          <a:blip r:embed="rId1"/>
          <a:stretch/>
        </p:blipFill>
        <p:spPr>
          <a:xfrm>
            <a:off x="411120" y="1154160"/>
            <a:ext cx="8337600" cy="5627520"/>
          </a:xfrm>
          <a:prstGeom prst="rect">
            <a:avLst/>
          </a:prstGeom>
          <a:ln w="0">
            <a:noFill/>
          </a:ln>
        </p:spPr>
      </p:pic>
      <p:sp>
        <p:nvSpPr>
          <p:cNvPr id="118" name="1 Rectángulo"/>
          <p:cNvSpPr/>
          <p:nvPr/>
        </p:nvSpPr>
        <p:spPr>
          <a:xfrm>
            <a:off x="468360" y="189000"/>
            <a:ext cx="828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Flujo de electrones y protones a través de los cuatro complejos que forman la cadena respirato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2 Rectángulo"/>
          <p:cNvSpPr/>
          <p:nvPr/>
        </p:nvSpPr>
        <p:spPr>
          <a:xfrm>
            <a:off x="468360" y="1125360"/>
            <a:ext cx="828036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 Rounded MT Bold"/>
              </a:rPr>
              <a:t>El oxígeno es el aceptor terminal del electrón, combinándose con electrones e iones H+ para producir agu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482760" y="333360"/>
            <a:ext cx="822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HIBICION DEL TRANSPORTE ELECTRÓ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ángulo 3"/>
          <p:cNvSpPr/>
          <p:nvPr/>
        </p:nvSpPr>
        <p:spPr>
          <a:xfrm>
            <a:off x="457200" y="140976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idores del transporte electró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en solamente el transporte de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idores de la fosfori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en la síntesis de ATP, indirectamente el transporte de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acopl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mpiden la síntesis de ATP pero no inhiben el transporte de electrones. Actúan como ionóforos eliminando el gradiente de prot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idores de la transloc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en la entrada de ADP y la salida de ATP desde la mitocond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n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80360" cy="6208560"/>
          </a:xfrm>
          <a:prstGeom prst="rect">
            <a:avLst/>
          </a:prstGeom>
          <a:ln w="0">
            <a:noFill/>
          </a:ln>
        </p:spPr>
      </p:pic>
      <p:sp>
        <p:nvSpPr>
          <p:cNvPr id="123" name="2 Rectángulo"/>
          <p:cNvSpPr/>
          <p:nvPr/>
        </p:nvSpPr>
        <p:spPr>
          <a:xfrm>
            <a:off x="684360" y="549360"/>
            <a:ext cx="7559640" cy="1150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ACCIÓN DE INHIB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178840" cy="60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La cadena de transporte de electrones y </a:t>
            </a: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Calibri"/>
              </a:rPr>
              <a:t>la fosforilación oxidativa</a:t>
            </a: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 estuvieron separadas conceptualmente por mucho tiempo. </a:t>
            </a:r>
            <a:br>
              <a:rPr sz="2500"/>
            </a:br>
            <a:br>
              <a:rPr sz="2500"/>
            </a:b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Las observaciones sobre la formación del ATP hacían pensar a los investigadores en un intermediario fosforilado de la reacción. </a:t>
            </a:r>
            <a:br>
              <a:rPr sz="2500"/>
            </a:br>
            <a:br>
              <a:rPr sz="2500"/>
            </a:b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En 1961 Peter Mitchell propuso la </a:t>
            </a: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Calibri"/>
              </a:rPr>
              <a:t>Hipótesis Quimiosmótica</a:t>
            </a: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500"/>
            </a:br>
            <a:br>
              <a:rPr sz="2500"/>
            </a:br>
            <a:r>
              <a:rPr b="1" i="1" lang="es-ES_tradnl" sz="2500" spc="-1" strike="noStrike">
                <a:solidFill>
                  <a:srgbClr val="000000"/>
                </a:solidFill>
                <a:latin typeface="Calibri"/>
              </a:rPr>
              <a:t> “EL INTERMEDIARIO ENERGÉTICO NECESARIO PARA LA FORMACIÓN DEL ATP (O FOSFORILACIÓN DEL ADP), ES LA DIFERENCIA EN LA CONCENTRACIÓN DE PROTONES A TRAVÉS DE LA MEMBRANA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n 2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730160" cy="2208240"/>
          </a:xfrm>
          <a:prstGeom prst="rect">
            <a:avLst/>
          </a:prstGeom>
          <a:ln w="0">
            <a:noFill/>
          </a:ln>
        </p:spPr>
      </p:pic>
      <p:sp>
        <p:nvSpPr>
          <p:cNvPr id="126" name="1 CuadroTexto"/>
          <p:cNvSpPr/>
          <p:nvPr/>
        </p:nvSpPr>
        <p:spPr>
          <a:xfrm>
            <a:off x="2195640" y="620640"/>
            <a:ext cx="6804000" cy="61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ETER DENNIS MITCHELL  (1920 - 199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Interesado inicialmente en la penicilina, a partir de 1961 trabajó en el estudio sobre el almacenamiento de la energía en los seres vivos para ser posteriormente transportada a los puntos de utilización por medio de las moléculas 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AT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sí la energía liberada por el traslado de electrones en la cadena  respiratoria se conserva mediante la fosforilación del ADP, que se convierte nuevamente  en ATP, proceso denominado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RILACIÓN OXIDATIVA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En 1978 fue galardonado con el Premio Nobel de Química por sus trabajos sobre el INTERCAMBIO DE ENERGÍA BIOLÓGICA MEDIANTE LA TEORÍA DE LA QUÍMICA OSMÓTIC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 Rectángulo"/>
          <p:cNvSpPr/>
          <p:nvPr/>
        </p:nvSpPr>
        <p:spPr>
          <a:xfrm>
            <a:off x="1034640" y="439560"/>
            <a:ext cx="70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POSTULADOS DE LA TEORIA QUIMIOSMO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ángulo 3"/>
          <p:cNvSpPr/>
          <p:nvPr/>
        </p:nvSpPr>
        <p:spPr>
          <a:xfrm>
            <a:off x="471600" y="1197000"/>
            <a:ext cx="8229600" cy="51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Pasaje de H</a:t>
            </a:r>
            <a:r>
              <a:rPr b="1" lang="es-ES" sz="2000" spc="-1" strike="noStrike" u="sng" baseline="30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+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urante la transferencia de electrones desde la matriz al espacio intermembr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Generación de u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radiente electroquímico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flujo electrónico acompañado de la transferencia de prot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tones acumulados en el espacio intermembrana crean una fuerza: «protón-motriz», por la tendencia de volver a pasar al interior para igualar el pH a ambos lados de la membr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a fuerza  es utilizada para el pasaje de los 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a través de Fo y así activan la </a:t>
            </a:r>
            <a:r>
              <a:rPr b="1" i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P sint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755640" y="333360"/>
            <a:ext cx="7488360" cy="62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EN LOS SISTEMAS RED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LOS CAMBIOS DE ENERGÍA LIB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PUEDEN EXPRESARSE EN TÉRMINOS D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POTENCIAL 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OXIDACIÓN – RE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LAS ENZIMAS QUE INTERVIENEN EN LOS PROCESOS RED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SE DENOMINA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Rounded MT Bold"/>
              </a:rPr>
              <a:t>OXIDORREDUCTA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Rectángulo"/>
          <p:cNvSpPr/>
          <p:nvPr/>
        </p:nvSpPr>
        <p:spPr>
          <a:xfrm>
            <a:off x="1392120" y="262080"/>
            <a:ext cx="691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Rounded MT Bold"/>
              </a:rPr>
              <a:t>Lugar de translocación de pro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00040" y="954000"/>
            <a:ext cx="814392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2" descr="C:\Users\Fanny\Documents\Quimica Biologica I\1-Imagenes Lehninger\TRaducidas\cadena respiratoria.jpg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n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1356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1 Rectángulo"/>
          <p:cNvSpPr/>
          <p:nvPr/>
        </p:nvSpPr>
        <p:spPr>
          <a:xfrm>
            <a:off x="2694960" y="33336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COMPLEJO ATP sin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uadro de texto 10"/>
          <p:cNvSpPr/>
          <p:nvPr/>
        </p:nvSpPr>
        <p:spPr>
          <a:xfrm>
            <a:off x="52560" y="1305000"/>
            <a:ext cx="3751200" cy="50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9 subunidades: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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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itios catalít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: Proteína integral , canal transmembrana para protones con 3 subunidades: a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ta enzima es la que transforma la energía cinética del ATP en energía quím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l Dr. Boyer (1964) recibió el Premio Nobel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l describir la ATP sinta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24360" y="1305000"/>
            <a:ext cx="521964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2 Rectángulo"/>
          <p:cNvSpPr/>
          <p:nvPr/>
        </p:nvSpPr>
        <p:spPr>
          <a:xfrm>
            <a:off x="7920" y="189000"/>
            <a:ext cx="9136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La energía del gradiente de protones se utiliza también para el transpo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600360" y="1341360"/>
            <a:ext cx="5543640" cy="481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243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1 CuadroTexto"/>
          <p:cNvSpPr/>
          <p:nvPr/>
        </p:nvSpPr>
        <p:spPr>
          <a:xfrm>
            <a:off x="0" y="333360"/>
            <a:ext cx="9144000" cy="56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l control de la fosforilación oxidativa permite a la célula producir solo la cantidad de ATP que se requiere para el mantenimiento de sus actividad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l valor del cociente P/O, representa el número de moles de Pi que se consumen para que se reduzca cada átomo de 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 H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l cociente máximo medido para la oxidación de NADH es 2,5 y para FADH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s 1,5, para mayor practicidad se consideran 3 ATP y 2 ATP, respectivam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rol respiratorio por el aceptor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as mitocondrias solo pueden oxidar al NADH y al FADH cuando hay una concentración suficiente de ADP  y P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uando todo el ADP se transformó en ATP, disminuye el consumo de oxígeno y aumenta cuando se suministra AD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752400" y="604800"/>
            <a:ext cx="76392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 Rectángulo"/>
          <p:cNvSpPr/>
          <p:nvPr/>
        </p:nvSpPr>
        <p:spPr>
          <a:xfrm>
            <a:off x="0" y="322200"/>
            <a:ext cx="889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hibidores de la fosfor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ángulo 3"/>
          <p:cNvSpPr/>
          <p:nvPr/>
        </p:nvSpPr>
        <p:spPr>
          <a:xfrm>
            <a:off x="504720" y="1125360"/>
            <a:ext cx="817272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Oligomicina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quea el flujo de protones a través de 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impidiendo la fosforil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inhibe la síntesis de AT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acumulan protones y se produce una fuerza inversa deteniéndose el transporte de electr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Desacoplantes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</a:rPr>
              <a:t>Compuestos que impiden la síntesis de ATP, pero no bloquean el flujo de electrones, de esa manera desacoplan  la cadena respiratoria de la fosforilación oxidativ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</a:rPr>
              <a:t>El 2,3-dinitrofenol (DNF) transfiere iones hidrógeno desde el lado externo hacia la matriz y anula el gradiente de protones  creado por la cadena respirato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n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505296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  <p:sp>
        <p:nvSpPr>
          <p:cNvPr id="145" name="1 CuadroTexto"/>
          <p:cNvSpPr/>
          <p:nvPr/>
        </p:nvSpPr>
        <p:spPr>
          <a:xfrm>
            <a:off x="179280" y="154080"/>
            <a:ext cx="8785440" cy="10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istemas de lanzad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urgen de la necesidad de recuperar el NAD+ citosólico, dado que la membrana mitocondrial es impermeable a este compue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484360" y="907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n 2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189000" cy="371520"/>
          </a:xfrm>
          <a:prstGeom prst="rect">
            <a:avLst/>
          </a:prstGeom>
          <a:ln w="0">
            <a:noFill/>
          </a:ln>
        </p:spPr>
      </p:pic>
      <p:sp>
        <p:nvSpPr>
          <p:cNvPr id="57" name="2 CuadroTexto"/>
          <p:cNvSpPr/>
          <p:nvPr/>
        </p:nvSpPr>
        <p:spPr>
          <a:xfrm>
            <a:off x="395280" y="620640"/>
            <a:ext cx="8209080" cy="563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Oxidorreduc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Catalizan reacciones d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oxido- re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red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+ 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ox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ox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+ 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A : es el reductor o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dador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electrónico; en el 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de la reacció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se oxida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(pierde electr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B : es el oxidante o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aceptor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electrónico; en el 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de la reacció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se reduce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(gana electr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n las reacciones redox, siempre tienen que e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esentes a la vez el aceptor y el dador electró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ínea 8"/>
          <p:cNvSpPr/>
          <p:nvPr/>
        </p:nvSpPr>
        <p:spPr>
          <a:xfrm>
            <a:off x="3851280" y="2421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Elipse"/>
          <p:cNvSpPr/>
          <p:nvPr/>
        </p:nvSpPr>
        <p:spPr>
          <a:xfrm>
            <a:off x="2843280" y="5732640"/>
            <a:ext cx="86508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2 Elipse"/>
          <p:cNvSpPr/>
          <p:nvPr/>
        </p:nvSpPr>
        <p:spPr>
          <a:xfrm>
            <a:off x="2987640" y="5732640"/>
            <a:ext cx="57636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81080" y="1785960"/>
            <a:ext cx="8742240" cy="473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1 Rectángulo"/>
          <p:cNvSpPr/>
          <p:nvPr/>
        </p:nvSpPr>
        <p:spPr>
          <a:xfrm>
            <a:off x="2843280" y="17445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Mas activa en hígado y coraz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agen 3" descr=""/>
          <p:cNvPicPr/>
          <p:nvPr/>
        </p:nvPicPr>
        <p:blipFill>
          <a:blip r:embed="rId3"/>
          <a:stretch/>
        </p:blipFill>
        <p:spPr>
          <a:xfrm>
            <a:off x="3132000" y="2708280"/>
            <a:ext cx="544680" cy="289080"/>
          </a:xfrm>
          <a:prstGeom prst="rect">
            <a:avLst/>
          </a:prstGeom>
          <a:ln w="0">
            <a:noFill/>
          </a:ln>
        </p:spPr>
      </p:pic>
      <p:pic>
        <p:nvPicPr>
          <p:cNvPr id="152" name="Imagen 4" descr=""/>
          <p:cNvPicPr/>
          <p:nvPr/>
        </p:nvPicPr>
        <p:blipFill>
          <a:blip r:embed="rId4"/>
          <a:stretch/>
        </p:blipFill>
        <p:spPr>
          <a:xfrm>
            <a:off x="3132000" y="5229360"/>
            <a:ext cx="5432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68400" cy="612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348000" y="1270080"/>
            <a:ext cx="5513400" cy="5183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3348000" y="333360"/>
            <a:ext cx="54720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n 11" descr=""/>
          <p:cNvPicPr/>
          <p:nvPr/>
        </p:nvPicPr>
        <p:blipFill>
          <a:blip r:embed="rId1"/>
          <a:stretch/>
        </p:blipFill>
        <p:spPr>
          <a:xfrm>
            <a:off x="357120" y="1162080"/>
            <a:ext cx="84297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n 3" descr=""/>
          <p:cNvPicPr/>
          <p:nvPr/>
        </p:nvPicPr>
        <p:blipFill>
          <a:blip r:embed="rId1"/>
          <a:stretch/>
        </p:blipFill>
        <p:spPr>
          <a:xfrm>
            <a:off x="104760" y="2924280"/>
            <a:ext cx="8933040" cy="2352600"/>
          </a:xfrm>
          <a:prstGeom prst="rect">
            <a:avLst/>
          </a:prstGeom>
          <a:ln w="0">
            <a:noFill/>
          </a:ln>
        </p:spPr>
      </p:pic>
      <p:sp>
        <p:nvSpPr>
          <p:cNvPr id="60" name="2 Rectángulo"/>
          <p:cNvSpPr/>
          <p:nvPr/>
        </p:nvSpPr>
        <p:spPr>
          <a:xfrm>
            <a:off x="0" y="765000"/>
            <a:ext cx="9144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stas reacciones son fuertemente exergónica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n las cuales para evitar una liberación brusca de energía, no aprovechable por la célul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se libera en forma fracciona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324000" y="40464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ISTINTAS FORMAS EN QUE LA CELULA PUEDE TRANSFERIR ELECTR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upo 20"/>
          <p:cNvGrpSpPr/>
          <p:nvPr/>
        </p:nvGrpSpPr>
        <p:grpSpPr>
          <a:xfrm>
            <a:off x="345960" y="1468440"/>
            <a:ext cx="8569080" cy="520560"/>
            <a:chOff x="345960" y="1468440"/>
            <a:chExt cx="8569080" cy="520560"/>
          </a:xfrm>
        </p:grpSpPr>
        <p:grpSp>
          <p:nvGrpSpPr>
            <p:cNvPr id="63" name="Grupo 18"/>
            <p:cNvGrpSpPr/>
            <p:nvPr/>
          </p:nvGrpSpPr>
          <p:grpSpPr>
            <a:xfrm>
              <a:off x="345960" y="1468440"/>
              <a:ext cx="8569080" cy="520560"/>
              <a:chOff x="345960" y="1468440"/>
              <a:chExt cx="8569080" cy="520560"/>
            </a:xfrm>
          </p:grpSpPr>
          <p:sp>
            <p:nvSpPr>
              <p:cNvPr id="64" name="Cuadro de texto 9"/>
              <p:cNvSpPr/>
              <p:nvPr/>
            </p:nvSpPr>
            <p:spPr>
              <a:xfrm>
                <a:off x="345960" y="1468440"/>
                <a:ext cx="8569080" cy="520560"/>
              </a:xfrm>
              <a:prstGeom prst="rect">
                <a:avLst/>
              </a:prstGeom>
              <a:solidFill>
                <a:srgbClr val="fdfe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- Transferencia de 1 e</a:t>
                </a:r>
                <a:r>
                  <a:rPr b="1" lang="es-ES" sz="28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:  Fe +++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Fe+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ínea 10"/>
              <p:cNvSpPr/>
              <p:nvPr/>
            </p:nvSpPr>
            <p:spPr>
              <a:xfrm>
                <a:off x="6681960" y="1856880"/>
                <a:ext cx="646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" name="Línea 19"/>
            <p:cNvSpPr/>
            <p:nvPr/>
          </p:nvSpPr>
          <p:spPr>
            <a:xfrm flipH="1">
              <a:off x="6597720" y="1727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Cuadro de texto 6"/>
          <p:cNvSpPr/>
          <p:nvPr/>
        </p:nvSpPr>
        <p:spPr>
          <a:xfrm>
            <a:off x="345960" y="2133720"/>
            <a:ext cx="8569440" cy="122832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2.- Transferencia de un átomo de hidrógen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(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+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): 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+ B                A  +  B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ínea 11"/>
          <p:cNvSpPr/>
          <p:nvPr/>
        </p:nvSpPr>
        <p:spPr>
          <a:xfrm>
            <a:off x="3670200" y="292428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ínea 12"/>
          <p:cNvSpPr/>
          <p:nvPr/>
        </p:nvSpPr>
        <p:spPr>
          <a:xfrm flipH="1">
            <a:off x="3765240" y="3068640"/>
            <a:ext cx="865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uadro de texto 13"/>
          <p:cNvSpPr/>
          <p:nvPr/>
        </p:nvSpPr>
        <p:spPr>
          <a:xfrm>
            <a:off x="345960" y="3584520"/>
            <a:ext cx="8569440" cy="122832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3.- Transferencia de un ion Hidruro (: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+ 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→ A  + NADH +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uadro de texto 14"/>
          <p:cNvSpPr/>
          <p:nvPr/>
        </p:nvSpPr>
        <p:spPr>
          <a:xfrm>
            <a:off x="345960" y="4941720"/>
            <a:ext cx="8569440" cy="165492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4.- Transferencia de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desde un reductor orgánico al oxígeno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-C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+  ½ 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RC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O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ínea 15"/>
          <p:cNvSpPr/>
          <p:nvPr/>
        </p:nvSpPr>
        <p:spPr>
          <a:xfrm>
            <a:off x="3417840" y="6308640"/>
            <a:ext cx="504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792000" y="404640"/>
            <a:ext cx="7560000" cy="60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Gran parte de los sustratos oxidados en el organismo sufren deshidrogen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Las reacciones de deshidrogenación son catalizadas por las ENZIMAS DESHIDROGENAS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En estas reacciones el hidrógeno es captado por una coenz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Las coenzimas pueden s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- Nicotinamida (NAD o NADP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- Flavina (FA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ángulo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609480" y="692280"/>
            <a:ext cx="7850160" cy="5887800"/>
          </a:xfrm>
          <a:prstGeom prst="rect">
            <a:avLst/>
          </a:prstGeom>
          <a:ln w="0">
            <a:noFill/>
          </a:ln>
        </p:spPr>
      </p:pic>
      <p:sp>
        <p:nvSpPr>
          <p:cNvPr id="76" name="1 Rectángulo"/>
          <p:cNvSpPr/>
          <p:nvPr/>
        </p:nvSpPr>
        <p:spPr>
          <a:xfrm>
            <a:off x="611280" y="620640"/>
            <a:ext cx="7921440" cy="151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Flujo de electrones en la oxido-reducciones biológ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647640" y="2133720"/>
            <a:ext cx="7812000" cy="44830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064720" cy="711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Respiración Celu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 el conjunto de reacciones en las cuales el ác. pirúvico producido por la glucólisis se desdobla a CO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 y H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O y se producen 30 AT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n las células eucariontes la respiración se realiza en la mitocondr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3:41:19Z</dcterms:created>
  <dc:creator>Fanny</dc:creator>
  <dc:description/>
  <dc:language>en-US</dc:language>
  <cp:lastModifiedBy>Fanny</cp:lastModifiedBy>
  <dcterms:modified xsi:type="dcterms:W3CDTF">2011-04-29T21:27:10Z</dcterms:modified>
  <cp:revision>46</cp:revision>
  <dc:subject/>
  <dc:title>Presentación de PowerPoint</dc:title>
</cp:coreProperties>
</file>